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1CC6-86C6-4F43-809D-3558DD23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D886-A677-4D88-A4D0-E8801CB1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40B-E4B0-4B73-A38C-538F0638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D379-FE90-457C-AF56-3A3691F5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BB25-E86E-49E0-AC36-B85B9E52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F030-096F-4B16-BDF8-B2E1E375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565-A9C8-4182-A737-05DC7BF5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2561-D2EA-463F-932F-4968B91E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573-8541-4F97-BA3B-364C2C87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584E-A28F-4A46-863B-04EFD0EB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954-5E64-47AE-9328-2D3085B8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57B4-EA9E-4082-8642-1A61CD4A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B1F9-D440-4CCC-9CDE-B0822B032F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Verdana"/>
              </a:rPr>
              <a:t>Go Tell The Good New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Paul’s First Journey”</a:t>
            </a:r>
            <a:endParaRPr b="0" lang="en-US" sz="36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rter 11, Lesson 1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ts 1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s 79-8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185-92C5-4086-9BA1-6E7C9CF2C77B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Paul Stoned In Lystra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Verdana"/>
              </a:rPr>
              <a:t>Acts 14:19-20</a:t>
            </a:r>
            <a:endParaRPr b="0" lang="en-US" sz="24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ws from Antioch and Iconium came and persuaded the multitude to stone Pau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nking he was dead, they dragged him out of the c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 the disciples stood around him, Paul got up and went back into the c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ul’s recovery was miraculo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C6F-0344-4099-BBAE-EFC716B4FBBD}" type="slidenum">
              <a:t>10</a:t>
            </a:fld>
          </a:p>
        </p:txBody>
      </p:sp>
    </p:spTree>
  </p:cSld>
  <p:transition>
    <p:strips dir="l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On To Derbe...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Verdana"/>
              </a:rPr>
              <a:t>Acts 14:20-21</a:t>
            </a:r>
            <a:endParaRPr b="0" lang="en-US" sz="24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next day Paul and Barnabas departed to Derb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preached and made many disciples t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7AD4-BE44-4D57-897F-DD6AA99BB484}" type="slidenum">
              <a:t>11</a:t>
            </a:fld>
          </a:p>
        </p:txBody>
      </p:sp>
    </p:spTree>
  </p:cSld>
  <p:transition>
    <p:wheel spokes="1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The Return Trip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Verdana"/>
              </a:rPr>
              <a:t>Acts 14:21-25</a:t>
            </a:r>
            <a:endParaRPr b="0" lang="en-US" sz="24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ul and Barnabas returned through Lystra, Iconium, and Antio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371600" indent="-51588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strengthened the discip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371600" indent="-51588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couraged them to continue in the fai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371600" indent="-51588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appointed elders in every chur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7D42-1659-4D46-93D3-66D9A8589A30}" type="slidenum">
              <a:t>12</a:t>
            </a:fld>
          </a:p>
        </p:txBody>
      </p:sp>
    </p:spTree>
  </p:cSld>
  <p:transition>
    <p:circl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Verdana"/>
              </a:rPr>
              <a:t>Persecutions</a:t>
            </a: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ioch of Pisidia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conium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ystra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must go through many hardships to enter into the kingdom of God.”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Acts 14:2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D7A-465C-4AE4-92EB-3FE3485B9C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The Return Trip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Verdana"/>
              </a:rPr>
              <a:t>Acts 14:21-25</a:t>
            </a:r>
            <a:endParaRPr b="0" lang="en-US" sz="24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then passed through Pisidia and came to Pamphyl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preached in Perga, then went down to Attal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5C5-FC07-4385-9322-EFC12F5DADBB}" type="slidenum">
              <a:t>14</a:t>
            </a:fld>
          </a:p>
        </p:txBody>
      </p:sp>
    </p:spTree>
  </p:cSld>
  <p:transition>
    <p:circl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The Return To Antioch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Verdana"/>
              </a:rPr>
              <a:t>Acts 14:26-28</a:t>
            </a:r>
            <a:endParaRPr b="0" lang="en-US" sz="24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om Attalia, they sailed back to Antioch ending their first journe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gathered the church together and reported all that God had done with th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reported that God had opened a door of faith to the Genti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stayed a long time with the disciples in Antio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BAB4-EB3B-485C-8819-2B743C019C17}" type="slidenum">
              <a:t>15</a:t>
            </a:fld>
          </a:p>
        </p:txBody>
      </p:sp>
    </p:spTree>
  </p:cSld>
  <p:transition>
    <p:wedg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Points To Remember</a:t>
            </a:r>
            <a:endParaRPr b="0" lang="en-US" sz="36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hurches needed qualified men to serve as eld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ders were appointed in every chur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men could be qualified quickly becaus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being a faithful J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miraculous gifts of the Holy Spir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ACE-4C3D-45EA-9932-C208CCA7D39B}" type="slidenum">
              <a:t>16</a:t>
            </a:fld>
          </a:p>
        </p:txBody>
      </p:sp>
    </p:spTree>
  </p:cSld>
  <p:transition>
    <p:blinds dir="horz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Points To Remember</a:t>
            </a:r>
            <a:endParaRPr b="0" lang="en-US" sz="36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ch church was  self-gover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ch church had its own elders (plura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ders were to overse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</a:rPr>
              <a:t>onl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hat flock among th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elders among you I exhort,... Feed the flock of God which is among you, taking oversight thereof,....”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1 Peter 5:1,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2461-8D86-485B-AA5E-C2552CDA261A}" type="slidenum">
              <a:t>17</a:t>
            </a:fld>
          </a:p>
        </p:txBody>
      </p:sp>
    </p:spTree>
  </p:cSld>
  <p:transition>
    <p:blinds dir="horz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76920" y="3124080"/>
            <a:ext cx="1143000" cy="5335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3389-5178-4A54-98BF-7C45E696324D}" type="slidenum">
              <a:t>18</a:t>
            </a:fld>
          </a:p>
        </p:txBody>
      </p:sp>
    </p:spTree>
  </p:cSld>
  <p:transition>
    <p:cover dir="d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7.03704E-006 C -0.01979 0.00441 -0.0191 0.00533 -0.05 -0.00231 C -0.05469 -0.00346 -0.05851 -0.00809 -0.06285 -0.01087 C -0.06632 -0.01319 -0.07257 -0.01944 -0.07257 -0.01944 C -0.07639 -0.02731 -0.08107 -0.03333 -0.07743 -0.04305 C -0.07621 -0.04629 -0.07465 -0.0493 -0.07257 -0.05161 C -0.06962 -0.05509 -0.06285 -0.06018 -0.06285 -0.06018 C -0.05295 -0.078 -0.04236 -0.07846 -0.02569 -0.08171 C -0.02309 -0.08309 -0.02031 -0.08425 -0.01771 -0.0861 C -0.01597 -0.08726 -0.01232 -0.08796 -0.01285 -0.0905 C -0.01337 -0.09351 -0.01719 -0.09305 -0.01927 -0.09467 C -0.02673 -0.10046 -0.03472 -0.10532 -0.04184 -0.1118 C -0.0467 -0.1162 -0.06771 -0.13564 -0.07257 -0.13772 C -0.07778 -0.14004 -0.07847 -0.13981 -0.08385 -0.14421 C -0.08576 -0.14583 -0.09618 -0.15624 -0.1 -0.15717 C -0.10851 -0.15948 -0.11719 -0.15995 -0.12569 -0.16134 C -0.13906 -0.16064 -0.15295 -0.16342 -0.16597 -0.15925 C -0.16979 -0.15809 -0.17031 -0.15069 -0.17257 -0.14629 C -0.17361 -0.14421 -0.17569 -0.13981 -0.17569 -0.13981 C -0.17569 -0.13842 -0.19201 -0.01388 -0.16285 7.03704E-006 C -0.1592 0.00718 -0.15521 0.0088 -0.15312 0.01714 C -0.16684 0.02292 -0.16944 0.022 -0.18871 0.02362 C -0.19635 0.02616 -0.20382 0.02894 -0.21128 0.03218 C -0.20677 0.04908 -0.21337 0.02825 -0.20469 0.04283 C -0.20364 0.04468 -0.20382 0.04723 -0.20312 0.04931 C -0.20052 0.05649 -0.2 0.05579 -0.19514 0.06019 C -0.18767 0.07524 -0.19201 0.07038 -0.18385 0.07732 C -0.18003 0.09191 -0.17066 0.1051 -0.16128 0.1139 C -0.15364 0.12894 -0.15798 0.12385 -0.15 0.13103 C -0.14531 0.14839 -0.15226 0.12802 -0.1434 0.13982 C -0.14219 0.14144 -0.14288 0.14445 -0.14184 0.14607 C -0.14062 0.14816 -0.13854 0.14908 -0.13698 0.15047 C -0.13264 0.15973 -0.12604 0.1639 -0.11927 0.16991 C -0.1092 0.17894 -0.10191 0.18404 -0.09028 0.18913 C -0.08003 0.19353 -0.06875 0.19191 -0.05798 0.19353 C -0.04062 0.19908 -0.00469 0.20001 -0.00469 0.20001 C 0.01719 0.19885 0.06893 0.21089 0.09688 0.18704 C 0.11945 0.14723 0.12865 0.16019 0.17743 0.15695 C 0.18073 0.15417 0.18594 0.15325 0.18715 0.14839 C 0.18924 0.13936 0.18733 0.14329 0.19358 0.13751 C 0.19462 0.13473 0.19601 0.13195 0.19688 0.12894 C 0.19757 0.12686 0.19965 0.12408 0.19844 0.12246 C 0.19497 0.11783 0.18559 0.1139 0.18559 0.1139 C 0.1816 0.10603 0.17674 0.10417 0.17101 0.09885 C 0.16771 0.09954 0.1625 0.097 0.16129 0.10093 C 0.15903 0.10834 0.16215 0.11667 0.16302 0.12454 C 0.1632 0.12686 0.16458 0.13103 0.16458 0.13103 E">
                                      <p:cBhvr>
                                        <p:cTn id="412" dur="5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72200" y="4038480"/>
            <a:ext cx="1295280" cy="5335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EE5-F840-4FE3-91FE-7080ABB20ED2}" type="slidenum">
              <a:t>2</a:t>
            </a:fld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2.77778E-007 -4.81481E-006 C 0.01302 0.00556 0.0257 0.01158 0.03872 0.01713 C 0.03889 0.01713 0.0507 0.02246 0.0533 0.02361 C 0.05643 0.025 0.06285 0.02801 0.06285 0.02801 C 0.06337 0.0301 0.06407 0.03241 0.06459 0.03449 C 0.06563 0.03866 0.06771 0.04722 0.06771 0.04722 C 0.06667 0.05371 0.06459 0.06667 0.06459 0.06667 E">
                                      <p:cBhvr>
                                        <p:cTn id="14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06459 0.0669 C 0.05504 0.07523 0.04983 0.08634 0.04132 0.09629 C 0.03872 0.10717 0.04219 0.09745 0.03542 0.10555 C 0.02431 0.11852 0.04063 0.10416 0.02761 0.11481 C 0.01754 0.13333 -0.00555 0.15046 -0.02291 0.15717 C -0.03055 0.16342 -0.03889 0.1662 -0.04757 0.16852 C -0.05277 0.16967 -0.05659 0.17407 -0.06128 0.17592 C -0.07413 0.18009 -0.08958 0.18148 -0.10277 0.18333 C -0.11302 0.18194 -0.12343 0.18148 -0.1335 0.17963 C -0.14045 0.17824 -0.14357 0.16921 -0.15034 0.16643 C -0.15538 0.1625 -0.16007 0.16342 -0.1625 0.15717 E">
                                      <p:cBhvr>
                                        <p:cTn id="17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" nodeType="after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0.17083 0.16597 C -0.17309 0.16875 -0.17517 0.17153 -0.17743 0.17453 C -0.18125 0.17986 -0.17899 0.1875 -0.18055 0.19375 C -0.18125 0.19768 -0.18697 0.20833 -0.1901 0.21134 C -0.19305 0.21412 -0.19722 0.21551 -0.20104 0.21713 C -0.20416 0.21852 -0.21059 0.22014 -0.21059 0.22014 C -0.21631 0.22361 -0.2217 0.22407 -0.22812 0.22592 C -0.23836 0.22523 -0.26753 0.23264 -0.26753 0.21574 E">
                                      <p:cBhvr>
                                        <p:cTn id="20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50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0.26753 0.21551 C -0.26857 0.21204 -0.26979 0.20857 -0.27083 0.20486 C -0.27204 0.2007 -0.27118 0.19468 -0.27395 0.1919 C -0.28194 0.1838 -0.27881 0.18843 -0.28368 0.17894 C -0.28628 0.16829 -0.28906 0.16713 -0.29496 0.15949 C -0.29947 0.1537 -0.2993 0.14398 -0.30295 0.1382 C -0.30468 0.13542 -0.30729 0.1338 -0.30954 0.13171 C -0.31058 0.1287 -0.31145 0.1257 -0.31267 0.12292 C -0.31354 0.1206 -0.3151 0.11898 -0.31597 0.11667 C -0.32447 0.09583 -0.31788 0.10324 -0.32725 0.09514 C -0.33315 0.06713 -0.33194 0.0787 -0.32881 0.03264 C -0.3276 0.01505 -0.3217 0.000459999999999999 -0.31909 -0.01667 C -0.3151 -0.04236 -0.30937 -0.09005 -0.29496 -0.10926 E">
                                      <p:cBhvr>
                                        <p:cTn id="23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15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0.29496 -0.10926 C -0.30086 -0.1213 -0.30503 -0.13403 -0.31111 -0.14584 C -0.30989 -0.16945 -0.3085 -0.19028 -0.30295 -0.2125 C -0.30121 -0.21968 -0.29982 -0.22685 -0.29809 -0.23403 C -0.29704 -0.23843 -0.29496 -0.24699 -0.29496 -0.24699 C -0.29791 -0.26875 -0.29757 -0.27755 -0.31267 -0.28773 C -0.31701 -0.29051 -0.32118 -0.29352 -0.32552 -0.2963 C -0.32777 -0.29769 -0.33211 -0.3007 -0.33211 -0.3007 E">
                                      <p:cBhvr>
                                        <p:cTn id="2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971800" y="1905120"/>
            <a:ext cx="144792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4AB-C1DD-4BDF-A326-CC44EEFFBBBC}" type="slidenum">
              <a:t>3</a:t>
            </a:fld>
          </a:p>
        </p:txBody>
      </p:sp>
    </p:spTree>
  </p:cSld>
  <p:transition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764 0.01574 C 0.01545 0.01828 0.03924 0.02523 0.06129 0.0331 C 0.06962 0.03611 0.08056 0.03773 0.0882 0.04213 C 0.10781 0.05347 0.0908 0.04652 0.1033 0.05069 C 0.11163 0.05393 0.10799 0.05254 0.11858 0.05972 C 0.12049 0.06111 0.13021 0.06342 0.13351 0.06504 C 0.13542 0.06597 0.13681 0.06759 0.13872 0.06852 C 0.1408 0.06944 0.15018 0.07245 0.15382 0.07384 C 0.15556 0.0743 0.15868 0.07546 0.15868 0.07569 C 0.16406 0.0794 0.17084 0.08287 0.1757 0.08796 E">
                                      <p:cBhvr>
                                        <p:cTn id="4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757 0.08796 C 0.17396 0.08842 0.16198 0.09167 0.15782 0.09444 C 0.15191 0.09838 0.14827 0.10092 0.14167 0.10301 C 0.13594 0.1081 0.13039 0.10879 0.12396 0.11157 C 0.11563 0.11921 0.10556 0.11875 0.09653 0.12454 C 0.0915 0.12778 0.0875 0.13079 0.08212 0.1331 C 0.07848 0.14004 0.07691 0.13958 0.08039 0.13958 E">
                                      <p:cBhvr>
                                        <p:cTn id="4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8039 0.13958 C 0.0875 0.14143 0.09584 0.14213 0.10278 0.1456 C 0.10469 0.14629 0.10608 0.14791 0.10799 0.14838 C 0.11302 0.15 0.12379 0.15162 0.12379 0.15185 C 0.13716 0.15764 0.12361 0.15231 0.14271 0.15648 C 0.15556 0.15903 0.16754 0.1625 0.18091 0.16389 C 0.18785 0.16597 0.19341 0.16875 0.2 0.17222 E">
                                      <p:cBhvr>
                                        <p:cTn id="46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At Iconium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Verdana"/>
              </a:rPr>
              <a:t>Acts 14:1-3</a:t>
            </a:r>
            <a:endParaRPr b="0" lang="en-US" sz="24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ul and Barnabas went to the synagogue and began to tea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great number of Jews and Greeks believ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unbelieving Jews stirred up the Gentiles causing trou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vertheless, Paul and Barnabas stayed in Iconium a long time preaching bold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E5A3-326E-4166-AE83-66165AAFAF9D}" type="slidenum">
              <a:t>4</a:t>
            </a:fld>
          </a:p>
        </p:txBody>
      </p:sp>
    </p:spTree>
  </p:cSld>
  <p:transition>
    <p:zoom dir="in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On To Lystra and Derbe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Verdana"/>
              </a:rPr>
              <a:t>Acts 14:4-6</a:t>
            </a:r>
            <a:endParaRPr b="0" lang="en-US" sz="24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conium was divid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plot was made to stone th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ul and Barnabas fled to the province of Lycaon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Romans had divided this region into two par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ul and Barnabas did not go beyond the Roman part of Lycaonia which contained the cities of Lystra and Derb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601B-AFF9-42FC-9474-8497A4342E31}" type="slidenum">
              <a:t>5</a:t>
            </a:fld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At Lystra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Verdana"/>
              </a:rPr>
              <a:t>Acts 14:7-10</a:t>
            </a:r>
            <a:endParaRPr b="0" lang="en-US" sz="24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gain, they preached the gosp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ul and Barnabas found a man who was la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man had never walk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ul, seeing he had faith to be healed, said, “Stand up on your feet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an jumped up and walk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re did this man get his faith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C391-87DC-40BD-A556-2E529A94381B}" type="slidenum">
              <a:t>6</a:t>
            </a:fld>
          </a:p>
        </p:txBody>
      </p:sp>
    </p:spTree>
  </p:cSld>
  <p:transition>
    <p:checke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The People Try To Worship Them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Verdana"/>
              </a:rPr>
              <a:t>Acts 14:11-14</a:t>
            </a:r>
            <a:endParaRPr b="0" lang="en-US" sz="24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the people saw this, they cried out, “The gods have come down in the likeness of men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nking Paul and Barnabas to be gods, the people called Barnabas, Jupiter; and Paul, Mercu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priest of Jupiter brought oxen and garlands intending to offer sacrific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B9E-7465-4C0F-9590-B2DF12064495}" type="slidenum">
              <a:t>7</a:t>
            </a:fld>
          </a:p>
        </p:txBody>
      </p:sp>
    </p:spTree>
  </p:cSld>
  <p:transition>
    <p:checker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Their Plea To The People...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Verdana"/>
              </a:rPr>
              <a:t>Acts 14:14-17</a:t>
            </a:r>
            <a:endParaRPr b="0" lang="en-US" sz="24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ul and Barnabas tore their clothes and ran into the crow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preached to the people -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y are you doing thi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are men just like yo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urn from vain things to the living God who made the heaven, the earth, the sea, and all the things in th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d has blessed the Genti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0FD3-B976-45EE-8FEC-E73D87D28659}" type="slidenum">
              <a:t>8</a:t>
            </a:fld>
          </a:p>
        </p:txBody>
      </p:sp>
    </p:spTree>
  </p:cSld>
  <p:transition>
    <p:checker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Verdana"/>
              </a:rPr>
              <a:t>They Stopped The Sacrifices</a:t>
            </a:r>
            <a:br>
              <a:rPr sz="3600"/>
            </a:br>
            <a:r>
              <a:rPr b="0" lang="en-US" sz="2400" spc="-1" strike="noStrike">
                <a:solidFill>
                  <a:srgbClr val="e3e3ff"/>
                </a:solidFill>
                <a:latin typeface="Verdana"/>
              </a:rPr>
              <a:t>Acts 14:18</a:t>
            </a:r>
            <a:endParaRPr b="0" lang="en-US" sz="24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th great difficulty Paul and Barnabas stopped the multitude from sacrificing to th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te:  This sermon did not draw attention to Jewish history, or to prophecies of the O. T. which would have meant nothing to these peop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A3E-292C-49E4-9C71-C97AD7A6D4C6}" type="slidenum">
              <a:t>9</a:t>
            </a:fld>
          </a:p>
        </p:txBody>
      </p:sp>
    </p:spTree>
  </p:cSld>
  <p:transition>
    <p:strips dir="l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8T04:52:28Z</dcterms:created>
  <dc:creator>billy lauderdale</dc:creator>
  <dc:description/>
  <dc:language>en-US</dc:language>
  <cp:lastModifiedBy>Frank D Vines</cp:lastModifiedBy>
  <dcterms:modified xsi:type="dcterms:W3CDTF">2007-02-25T14:35:01Z</dcterms:modified>
  <cp:revision>36</cp:revision>
  <dc:subject/>
  <dc:title>Go Tell The Good News “Paul’s First Journey”</dc:title>
</cp:coreProperties>
</file>